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BB48-78F7-407A-BFE6-F217B71DC11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6C0C-3880-4259-BAD3-B4A870F771E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F4E4-1858-4F0F-BB43-70FFBDA09B6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9E1A-8216-4F76-AF7A-1D442AB3D13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025F-BE58-47E9-AF8F-AEDCE63E6E0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19C1-EBEA-4B55-BE3E-89DDD5FAD96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ED37-E474-4857-9B4B-D9132668605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85A9-EA91-43A7-8278-EF11E743698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0644-7853-4AB3-A054-F14C379736D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0B08-A639-4B9C-A03C-691ABCD2A94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FFB2-AA89-406A-9650-90732F44DF8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7ADD-EEBD-47D5-80A9-AC2E5C3605C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5AB6-F37A-40B8-ADEF-7049A4C8070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5370-E220-4DDF-918E-68086E62CB5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E459-1AA1-4ABD-A33F-F044259A74F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86D2-0E22-4AB0-87CA-D6600D569AE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E64C-B9A9-48D5-8673-EE7B6820986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FC45-3ADE-4A04-9D8F-B5C631DC203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552A-911E-499D-A761-825D13B1C2A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6809-1783-412B-AAF5-9AD0084B992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068E-3D37-4DF6-A61F-840CD24D312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89B3-7C04-474D-B9FE-D6C4209F5D3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F6FC-2AF0-4892-BE8D-067C7D3D889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DD62-2A73-45B9-A7CC-BF77C67B3DF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50BC-BF5B-4B43-A346-ADB8AB86B11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0478-44FE-4892-8EF7-6A1A7E752AF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49CD-1250-4F70-B4F5-07571F274BF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90B2-A5DE-44FC-AB7C-390A83E5EB3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E57E-CA19-42DD-82A1-FC195B8EEC9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B2B8-1775-4640-ACFD-84E93B2608B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B3F6-CE0B-4C0F-9C97-6F9CC546E5C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74C2-11B0-4A7F-A147-3E2A3CD5367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88E3-F02D-4806-B86E-2ADFA92C169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AA1C-41D7-476A-99DC-7F25D5D44C4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7043-0BC9-4F1A-A107-D89C75B03699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8D45-4915-4A5F-AAA0-CF816C40B4B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BC7B-178E-4369-B0C5-892024B57C7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F74B-EBAF-4AC7-BB6B-231FD4E3ECA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09C5-C7BC-4140-A3E0-060AA284EBC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27B8-AD41-4314-87EF-7B07F4143D6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ADAF-54A5-430D-8B18-BC6B22C1D63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542D-C11C-45F5-89E6-AFBA774D442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325A-03DB-4767-AA5B-70C08F84799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E143-6162-48B8-BCEF-14C9A343148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B340-754C-46B0-863E-259936A1969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FE21-15C4-4857-A48E-284948E42FF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DD43-9972-4180-BFF9-3F9E77EBA42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5E0A-FBCC-4FCC-A81B-CBB95326915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0D10-F316-4D55-B156-78A8C24A78B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9AE5-F898-49F9-8C53-87F4B5A038D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D6EB-4F5E-4F07-871D-A51A60E9909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7175-62F1-4FFD-BB43-CFA5B3C6398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3A0C-F79A-4677-B5C6-B8E90186199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7BE1-6F2E-4156-BA52-1248D80AB8F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FC67-FEAF-424B-A83A-D2509251CBC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D1DD-B4A7-4821-B00A-C32F22C2098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1EE2-FF79-4A4B-AAB2-122B3CA1EF5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473F-3028-467F-9D5A-309C6A72EAA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E800-47A1-4725-8889-EC766E96670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41EE-FCDC-4DC9-9FC9-FCBFF9AD338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22B8-10CA-4C80-ABF7-8D6E1B477FD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CB51-203A-469C-BF7B-07A355F6231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0B1C-16EE-47B0-8FC8-C6D7584BA9E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DBA5-4851-4418-A146-B486FC4CF8C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27BD-1B26-4490-8293-81ACE26EDC9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A240-E533-4B86-BD7B-32D7EE6A769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A231-18D8-4B3A-958E-73605DBAE7A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7A08-A4FC-4D59-9B0C-B68B6DE4814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889E-0321-40CC-B718-B669DD5719E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FE35-EB88-4E0D-BEB3-A51B689E3C4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A574-F02E-4979-BAAF-8A811F3EA9B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260C-E530-492C-8849-5A46EB06024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A737-9483-4133-ADEE-0C6EF5FBF3EF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F99E-2159-4C50-8021-1B7B387EC68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59AC-3987-471E-AADA-48C1B824E81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6A3B-3437-4F82-AC08-97667B26396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A00-A7CD-4B63-B53D-DF422880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34C-526E-4031-A438-290DD64E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630-DA05-42B1-BF06-8B7AE99A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71F-8681-445E-AC1B-DDE29844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FB05-4B34-4501-BC01-396BB51A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B089-CAB0-4276-9122-DF53ED1E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8668-0EEB-49C7-AE2A-8BD77116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C2F9-E720-4D3E-A36E-21078946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3F4D-82CA-43E6-908F-285E7F9D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946E-F933-407D-82C1-468356D6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4F99-A73E-4896-BE80-31EBAB21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D6E-6522-4CD8-B727-D8113CAF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8624-75A5-415B-923A-D690ED9A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4315-646C-4EF4-89AE-08148262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65C7-5DF3-443A-BD15-39F1E94B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883D-B11E-41A5-BBB1-FF715CF7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82DB-FBE2-44E5-B317-EE4CF79C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484-4388-4751-BE09-D8940DE8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3A9-2B40-44AA-81C6-F82CCAA7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A69-A4C5-4287-8338-5931CE77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727-B094-4722-A1E4-7512062C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66B-F753-4974-AE0E-BFE63E48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023-F1F6-41FE-852A-8831E9C1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FDF-59B6-4863-A1E7-0124B513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400"/>
            <a:ext cx="8556480" cy="1052280"/>
            <a:chOff x="0" y="14400"/>
            <a:chExt cx="8556480" cy="1052280"/>
          </a:xfrm>
        </p:grpSpPr>
        <p:sp>
          <p:nvSpPr>
            <p:cNvPr id="1" name=""/>
            <p:cNvSpPr/>
            <p:nvPr/>
          </p:nvSpPr>
          <p:spPr>
            <a:xfrm>
              <a:off x="673200" y="1224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84080" y="5446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14400"/>
              <a:ext cx="8556480" cy="1052280"/>
              <a:chOff x="0" y="14400"/>
              <a:chExt cx="8556480" cy="105228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122400"/>
                <a:ext cx="4381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360" y="544680"/>
                <a:ext cx="4222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471600"/>
                <a:ext cx="560160" cy="422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5040" y="14400"/>
                <a:ext cx="31680" cy="1052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30120" y="776160"/>
                <a:ext cx="8226360" cy="32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85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FA85-81AB-438A-8B6A-3BCB266AF18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31D6A58F-30CA-4D5E-AAB0-6FD115372432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3</a:t>
            </a:fld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2BAB-1338-4064-9296-C527E9C3AFE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3152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Haettenschweiler"/>
              </a:rPr>
              <a:t>CHAPTER  el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2C1D-CA04-439D-BAAA-D67F6BE6CE40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B9887D69-8AF5-4778-A9DC-3AC8CFA7F640}" type="datetime10">
              <a:rPr b="0" lang="en-US" sz="1400" spc="-1" strike="noStrike">
                <a:solidFill>
                  <a:srgbClr val="1c1c1c"/>
                </a:solidFill>
                <a:latin typeface="Tahoma"/>
              </a:rPr>
              <a:t>17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79D5-436A-42E5-97E2-C1388832B05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29718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离散数学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Discrete Mathematic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2AC-72C3-4D1E-AD5C-02566105701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CFC69-B920-46E0-9C71-F8E1BC894988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格的性质：序与运算的关系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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2205000"/>
            <a:ext cx="763272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证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知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下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然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反对称性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证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吸收律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上面的等式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证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91B-D6AB-4FDD-8DFC-F2FC84D026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9D077-5361-42D7-8D38-08E743A6B343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格的性质：保序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330192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≼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133720"/>
            <a:ext cx="81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此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理可证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437000"/>
            <a:ext cx="792000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 由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而得到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≼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一般说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中的∨和∧运算不满足分配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FDF-F793-40B2-B926-459FE58D6D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5CB26-2FC2-4247-92AE-9C24FCFE1832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格作为代数系统的定义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∗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具有两个二元运算的代数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对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算适合交换律、结合律、吸收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可以适当定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偏序 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≼&gt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省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.4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给出格的另一个等价定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4005360"/>
            <a:ext cx="813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∗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代数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二元运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交换律、结合律和吸收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∗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A74-63F2-4E36-8188-A10488FD48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8FAE3-ADBB-49B5-84C1-664BCBC332F6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子格及其判别法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1268280"/>
            <a:ext cx="7921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∧,∨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非空子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运算∧和∨仍构成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子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2421000"/>
            <a:ext cx="457200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子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子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10384" r="0" b="2596"/>
          <a:stretch/>
        </p:blipFill>
        <p:spPr>
          <a:xfrm>
            <a:off x="5003640" y="2421000"/>
            <a:ext cx="3167280" cy="25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8EC-3B49-4187-8B9F-5ED44C098D7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BA1E7-68CB-49B6-B276-58E6B9053A0A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11.2 </a:t>
            </a:r>
            <a:r>
              <a:rPr b="1" lang="zh-CN" sz="2000" spc="-1" strike="noStrike">
                <a:solidFill>
                  <a:srgbClr val="333399"/>
                </a:solidFill>
                <a:latin typeface="华文中宋"/>
              </a:rPr>
              <a:t>分配格、有补格与布尔代数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∧,∨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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     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分配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可以证明以上两个条件互为充分必要条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11168" r="0" b="14839"/>
          <a:stretch/>
        </p:blipFill>
        <p:spPr>
          <a:xfrm>
            <a:off x="1908000" y="3284640"/>
            <a:ext cx="5904000" cy="2376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55640" y="5702400"/>
            <a:ext cx="745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分配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分配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钻石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五角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9120" y="3476520"/>
            <a:ext cx="9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791-69F1-4938-8BE6-F20483923A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DFEC2-0879-4AA2-AB2E-2FB9AFA34CE5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分配格的判别及性质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分配格当且仅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含有与钻石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五角格同构的子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省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推论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于五元的格都是分配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任何一条链都是分配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 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图中的格是否为分配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6674" r="0" b="6674"/>
          <a:stretch/>
        </p:blipFill>
        <p:spPr>
          <a:xfrm>
            <a:off x="3851280" y="3573360"/>
            <a:ext cx="5111640" cy="2784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68360" y="3645000"/>
            <a:ext cx="331164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都不是分配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子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构于钻石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子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构于五角格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子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构于钻石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C66-4622-4C65-AB36-BB0C452E85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ADD9E-D3FE-4696-AA9D-7723B55B463E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有界格的定义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075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存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全下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存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全上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存在全下界或全上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定是惟一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将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全下界记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上界记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在全下界和全上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有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将有界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∧,∨,0,1&gt;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C2D-EDE9-46B0-8E75-E6A0117DBD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0553D-525B-4C9F-A97A-9B84167F8161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91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∧,∨,0,1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有界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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0 = 0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0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1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1 =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421000"/>
            <a:ext cx="8281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限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有界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…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全下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…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全上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关于∧运算的零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算的单位元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关于∨运算的零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算的单位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涉及到有界格的命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其中含有全下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全上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求该命题的对偶命题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须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有界格的性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773-FCE1-4518-BC32-B008F936923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CBE95-55B6-410F-ABBF-53BE1303F624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有界格中的补元及实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218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∧,∨,0,1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有界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存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  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1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为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10656" r="0" b="14950"/>
          <a:stretch/>
        </p:blipFill>
        <p:spPr>
          <a:xfrm>
            <a:off x="900000" y="3573360"/>
            <a:ext cx="6913800" cy="2797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68360" y="321480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考虑下图中的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针对不同的元素，求出所有的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98DB-816D-4AD0-B920-1214C74FE3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EFCB9-3DEA-4BEE-9F9F-3027F469EBAB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解答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为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全下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全上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为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全下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全上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互为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为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全下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全上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是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是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是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个元素都有两个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为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全下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全上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是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是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是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B83-6FEB-4E10-AC6D-48C2A372F5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09759-C465-44E1-9413-C95FACC65CB3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华文中宋"/>
              </a:rPr>
              <a:t>第十一章  格与布尔代数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的定义及性质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配格、有补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布尔代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254-EFD1-4248-BBB6-9F8D823CFC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431E5-4C3A-41CB-B483-DCCEE0560B39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有界分配格的补元惟一性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∧,∨,0,1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有界分配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元素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存在惟一的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假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有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  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1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0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知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   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1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0 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而得到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分配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3933720"/>
            <a:ext cx="82296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4292640"/>
            <a:ext cx="8064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任何有界格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下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全上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一般元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能存在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能不存在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存在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能是惟一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能是多个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有界分配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元素存在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定是惟一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98F-F003-4E40-A658-A7917D74EC1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E36A5-B459-4882-AEF2-90CA4DCDB800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078800" y="595296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有补格的定义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∧,∨,0,1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有界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所有元素都有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存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有补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有补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有补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6674" r="0" b="6674"/>
          <a:stretch/>
        </p:blipFill>
        <p:spPr>
          <a:xfrm>
            <a:off x="900000" y="2637000"/>
            <a:ext cx="7344000" cy="345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A746-4F1F-42CA-8BDE-FBFF244EFD5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D28A1-A2EE-4A44-953C-A5B62731114A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布尔代数的定义与实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一个格是有补分配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称它为布尔格或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尔代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布尔代数标记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∧,∨,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0, 1&gt;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求补运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2205000"/>
            <a:ext cx="8136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{1, 2, 5, 10, 11, 22, 55, 110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正因子集合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求最大公约数的运算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求最小公倍数的运算，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0, gcd, lcm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否构成布尔代数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3645000"/>
            <a:ext cx="82803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难验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c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算构成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验证分配律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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lcm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) = lcm(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)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验证它是有补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全下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1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全上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为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为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为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为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而证明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0, gcd, lcm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布尔代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CC8-3FCF-4AFE-9639-7788A2FD59F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F411F-EAA3-4F8A-9E3E-D0FF7795A526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实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任意集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幂集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∩,∪, ~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布尔代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称为集合代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于∩和∪构成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∩和∪运算满足交换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合律和吸收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∩和∪互相可分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分配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下界是空集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上界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绝对补的定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全集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~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而证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有补分配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布尔代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0D1-C42C-4C1D-85FC-C122C9A9867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322E3-52CD-4B80-9213-83BC82B34558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布尔代数的性质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∧,∨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0, 1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布尔代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德摩根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2781360"/>
            <a:ext cx="82803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补元惟一性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任意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    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 = (1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1) = 1∧1 = 1,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   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 = (0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0) = 0∨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补元惟一性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504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德摩根律对有限个元素也是正确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46B-A6FF-463A-8926-9DEF3D065A3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2F97D-9736-4763-8267-A4D61637726B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布尔代数作为代数系统的定义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∗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代数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二元运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∗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满足：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换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配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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∗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 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∗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 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一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存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,1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∗1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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元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在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0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∗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一个布尔代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证明，布尔代数的两种定义是等价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DF1-C741-4AFF-8EBC-615BABD038E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AB85F-6FDF-4EC5-891F-5D39ED069C80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有限布尔代数的结构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803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0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 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原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4449" r="0" b="6674"/>
          <a:stretch/>
        </p:blipFill>
        <p:spPr>
          <a:xfrm>
            <a:off x="1476360" y="3716280"/>
            <a:ext cx="5472000" cy="3059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2205000"/>
            <a:ext cx="8137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正整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全体正因子关于整除关系构成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原子恰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全体素因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幂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原子就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元素构成的单元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原子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原子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原子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C32-7689-427C-BAEF-080A665677D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E31D6-A1B7-420D-887B-FE06FD7953DB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有限布尔代数的表示定理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20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限布尔代数的表示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有限布尔代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全体原子构成的集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幂集代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2852640"/>
            <a:ext cx="82090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, l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算构成的布尔代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的原子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, 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此原子的集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{2,5,11}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幂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{2},{5},{11},{2,5},{2,11},{5,11},{2,5,11}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幂集代数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∩,∪,~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要令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=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= {2}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 = {5}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1) = {11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0) = {2,5}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2) = {2, 11}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5) = {5, 11}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10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么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是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幂集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同构映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31F-38D2-4672-A62D-DDF9F22648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7AEE2-1329-4303-83BD-CA768A300FBA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推论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推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任何有限布尔代数的基数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  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有限布尔代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所有原子构成的集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定理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| = 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 = 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推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任何等势的有限布尔代数都是同构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省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 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限布尔代数的基数都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任何自然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仅存在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的布尔代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63D-8F59-49AE-A199-DC1FFED93E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91130-9622-48BE-ABA6-58FBB6C4BDA3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708000" y="5445000"/>
            <a:ext cx="6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实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图给出了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的布尔代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6257880" cy="345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065-05B6-4244-8007-E06049A8B4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B88A1-A4F7-4A25-9D47-D891DC7337AB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11.1</a:t>
            </a:r>
            <a:r>
              <a:rPr b="1" lang="zh-CN" sz="2000" spc="-1" strike="noStrike">
                <a:solidFill>
                  <a:srgbClr val="333399"/>
                </a:solidFill>
                <a:latin typeface="华文中宋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华文中宋"/>
              </a:rPr>
              <a:t>格的定义与性质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353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≼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偏序集，如果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有最小上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界和最大下界，则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于偏序≼作成一个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小上界和最大下界看成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二元运算∨和∧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9120" y="256536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正整数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正因子的集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整除关系，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偏序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cm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小公倍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大公约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1123" r="0" b="4449"/>
          <a:stretch/>
        </p:blipFill>
        <p:spPr>
          <a:xfrm>
            <a:off x="1619280" y="3860640"/>
            <a:ext cx="6265800" cy="266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230-6B0A-446A-ACF7-76E0CCC228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CB3BC-E29F-40B0-8AD2-CE827979C7F3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第十一章  习题课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的两个等价定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的性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殊格：分配格、有界格、有补格、布尔代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基本要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够判别给定偏序集或者代数系统是否构成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够确定一个命题的对偶命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够证明格中的等式和不等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判别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子集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否构成子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够判别给定的格是否为分配格、有补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够判别布尔代数并证明布尔代数中的等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8E3-B6B8-4BD5-B910-6098A4B386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BC23D-2892-4E0A-B1B8-636D85CD5391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197000"/>
            <a:ext cx="7920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格中的命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≼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000" y="2492280"/>
            <a:ext cx="8280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小上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最小上界的定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≽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.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上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偏序的反对称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式得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4121280"/>
            <a:ext cx="83516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≼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理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≼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而得到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≼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99A-F413-4F56-A063-B1D919701C0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63059-CDD3-448B-AEF4-AA76BA55D7DA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090800" y="1773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中宋"/>
              </a:rPr>
              <a:t>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30480" y="11959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求图中格的所有子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18640" y="1911960"/>
            <a:ext cx="446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子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子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子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子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子格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724360" y="1525680"/>
            <a:ext cx="2951280" cy="3489120"/>
            <a:chOff x="5724360" y="1525680"/>
            <a:chExt cx="2951280" cy="3489120"/>
          </a:xfrm>
        </p:grpSpPr>
        <p:sp>
          <p:nvSpPr>
            <p:cNvPr id="212" name=""/>
            <p:cNvSpPr/>
            <p:nvPr/>
          </p:nvSpPr>
          <p:spPr>
            <a:xfrm>
              <a:off x="7020000" y="15256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5940360" y="1901880"/>
              <a:ext cx="2444760" cy="27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948360" y="449424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6000" y="33415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24360" y="25495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44000" y="25495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7C2-79F7-4A6D-85CC-CACB915DC6A6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422ED-DDFD-4B01-B8A0-02430B4ADC91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484400" y="4076640"/>
            <a:ext cx="6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1124640"/>
            <a:ext cx="7129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别下述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否为分配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4672440"/>
            <a:ext cx="7775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分配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它含有与钻石格同构的子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分配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它们含有与五角格同构的子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55640" y="1557360"/>
            <a:ext cx="7561440" cy="3029400"/>
            <a:chOff x="755640" y="1557360"/>
            <a:chExt cx="7561440" cy="302940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rcRect l="0" t="6674" r="0" b="11123"/>
            <a:stretch/>
          </p:blipFill>
          <p:spPr>
            <a:xfrm>
              <a:off x="755640" y="1557360"/>
              <a:ext cx="6121440" cy="27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908000" y="4076640"/>
              <a:ext cx="640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6F9-5159-4604-92EC-1DA4338EFBA9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42F35-84BA-4F5C-B13B-DFF8DF975F07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898560" y="1389240"/>
            <a:ext cx="7560720" cy="3029400"/>
            <a:chOff x="898560" y="1389240"/>
            <a:chExt cx="7560720" cy="30294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rcRect l="0" t="6674" r="0" b="11123"/>
            <a:stretch/>
          </p:blipFill>
          <p:spPr>
            <a:xfrm>
              <a:off x="898560" y="1389240"/>
              <a:ext cx="6121080" cy="27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2050560" y="3908520"/>
              <a:ext cx="640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284000" y="5695920"/>
            <a:ext cx="6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48760" y="1124280"/>
            <a:ext cx="49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针对下图，求出每个格的补元并说明它们是否为有补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437000"/>
            <a:ext cx="83246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为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元素没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为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为补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补元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有补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98B-14AD-4E8D-A7E8-49F6E5C3E85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D7836-2406-48E2-9A11-E00214AABD8C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对于以下各题给定的集合和运算判断它们是哪一类代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系统（半群、独异点、群、环、域、格、布尔代数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理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{1, 1/2, 2, 1/3, 3, 1/4, 4}, 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普通乘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∘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里的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给定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整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{0, 1},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普通乘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{1, 2, 3, 6}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∘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表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小公倍数和最大公约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{0, 1}, 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乘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5A1-56A2-49DE-9A3D-A331D90AA4C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D6F3E-67ED-482B-8B37-8B272C9B7148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8400" y="15912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解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解答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代数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乘法不封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∗4=16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半群但不是独异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∗运算满足结合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是没有单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独异点但不是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∗运算满足结合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位元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乘法逆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是布尔代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这两个运算满足交换律和分配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律；求最小公倍数运算的单位元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最大公约数运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单位元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同一律；两个运算满足补元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模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素数时构成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4BB1-CB52-4680-8F7F-E2A09C21FC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6C72A-18B8-45D7-B953-A118F05EA4A2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2647800"/>
            <a:ext cx="7991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                                                              反之也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它们都等价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                  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由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68360" y="1949400"/>
                <a:ext cx="4753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∧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⇔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08000" y="1099080"/>
            <a:ext cx="83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∧,∨,-,0,1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布尔代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对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任意元素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68360" y="1500120"/>
                <a:ext cx="32097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116000" y="2597040"/>
            <a:ext cx="6734160" cy="3711600"/>
            <a:chOff x="1116000" y="2597040"/>
            <a:chExt cx="6734160" cy="371160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1332000" y="3029040"/>
                  <a:ext cx="46800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∧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b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得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t xml:space="preserve">∧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b</m:t>
                              </m:r>
                            </m:e>
                          </m:bar>
                        </m:e>
                      </m:ba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即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</m:e>
                      </m:bar>
                      <m:r>
                        <m:t xml:space="preserve">∨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1258920" y="5765760"/>
                  <a:ext cx="599292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∧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b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∧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∧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b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∧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∧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b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∧</m:t>
                      </m:r>
                      <m:r>
                        <m:t xml:space="preserve">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1116000" y="2597040"/>
                  <a:ext cx="6734160" cy="49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∨</m:t>
                      </m:r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</m:e>
                      </m:bar>
                      <m:r>
                        <m:t xml:space="preserve">∧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∨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∧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∨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∧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∨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∨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3811680" y="3571920"/>
                  <a:ext cx="126504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</m:e>
                      </m:bar>
                      <m:r>
                        <m:t xml:space="preserve">∨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1332000" y="4038480"/>
                  <a:ext cx="6192720" cy="11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∧</m:t>
                          </m:r>
                          <m:r>
                            <m:t xml:space="preserve">1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∧</m:t>
                          </m:r>
                          <m:r>
                            <m:t xml:space="preserve">(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a</m:t>
                              </m:r>
                            </m:e>
                          </m:bar>
                          <m:r>
                            <m:t xml:space="preserve">∨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∧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a</m:t>
                              </m:r>
                            </m:e>
                          </m:bar>
                          <m:r>
                            <m:t xml:space="preserve">)</m:t>
                          </m:r>
                          <m:r>
                            <m:t xml:space="preserve">∨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∧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∨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∧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∧</m:t>
                          </m:r>
                          <m:r>
                            <m:t xml:space="preserve">b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F7D-E76E-4AA0-8D04-445D8C57737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B4E10-43C3-4BC6-8221-69CCE2B853D8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练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下述代数系统是否为格？是不是布尔代数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{1, 3, 4, 12}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任给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∘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lcm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gcd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c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求最小公倍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gc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求最大公约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{0, 1, 2}; 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乘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{0, ...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≥2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任给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∘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max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min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4581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布尔代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不是布尔代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199-AA0E-45DF-B2AD-749E33325B0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92855-193E-4580-B3F7-2A2242D5A16A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364640" y="595008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050480"/>
            <a:ext cx="741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下列偏序集是否构成格，并说明理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 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集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幂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 &lt;Z, ≤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整数集，≤为小于或等于关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偏序集的哈斯图分别在下图给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260280"/>
            <a:ext cx="6121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华文中宋"/>
              </a:rPr>
              <a:t>实例</a:t>
            </a: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8899" r="0" b="11123"/>
          <a:stretch/>
        </p:blipFill>
        <p:spPr>
          <a:xfrm>
            <a:off x="755640" y="2637000"/>
            <a:ext cx="7273800" cy="2543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522936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幂集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∩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max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min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不是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找到两个结点缺少最大下界或最小上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9F9-9739-44D0-AA2B-99514B995D5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17CA5-CDE4-4554-A8A5-3BF2A8953B4B}" type="datetime8">
              <a:rPr lang="en-US"/>
              <a:t>07/31/26 17:13</a:t>
            </a:fld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实例：子群格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群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所有子群的集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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任意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∩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子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成的子群（即包含着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小子群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定义包含关系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于包含关系构成一个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，称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子群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是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∩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是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∪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518-B147-474D-9DFD-D7F2F2C78A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F5543-2D8C-43C8-97CE-2E7CE10AC768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格的性质：对偶原理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含有格中元素以及符号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,≼ ,≽ ,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∧的命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将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≼替换成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成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成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成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得到的命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称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对偶命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格中令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≽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213000"/>
            <a:ext cx="83516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的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对偶原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含有格中元素以及符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,≼,≽,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∧等的命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切格为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偶命题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对一切格为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对一切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有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么对一切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有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≽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87200">
              <a:lnSpc>
                <a:spcPct val="100000"/>
              </a:lnSpc>
              <a:spcBef>
                <a:spcPts val="1650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对偶是相互的，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)*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BDB-0289-4CF8-AB22-55F8841A2D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F7B24-BBB3-45B0-B822-F64982E3ED92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格的性质：算律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11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≼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运算∨和∧适合交换律、结合律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幂等律和吸收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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       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342-3F40-42CB-968A-369AF7EDCF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9B1AE-3DFF-4287-B7E0-5D36A0AAC746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证明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小上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小上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 = {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对偶原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9120" y="242100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最小上界的定义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   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≽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≽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(1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   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≽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≽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       (2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   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≽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         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≽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            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≽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理可证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反对称性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对偶原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       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F48-7EDA-4573-95A1-9074B129F1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16D87-FD4F-4ACC-9136-52C4980D8D48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Black"/>
              </a:rPr>
              <a:t>证明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然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由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得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反对称性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对偶原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然 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≽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      (5)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≼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得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≼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(6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6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得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对偶原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∧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AE0-37F2-4F81-97E1-47F6460187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2F190-E217-4278-9F0C-4ABBF269C4AE}" type="datetime8">
              <a:rPr lang="en-US"/>
              <a:t>07/31/26 17:13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8:47:55Z</dcterms:created>
  <dc:creator>hlj</dc:creator>
  <dc:description/>
  <dc:language>en-US</dc:language>
  <cp:lastModifiedBy>999宝藏网</cp:lastModifiedBy>
  <dcterms:modified xsi:type="dcterms:W3CDTF">2012-05-17T00:46:11Z</dcterms:modified>
  <cp:revision>214</cp:revision>
  <dc:subject>ch1</dc:subject>
  <dc:title>lisan</dc:title>
</cp:coreProperties>
</file>